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DA8E8-3525-42C6-8E51-65A30A28E5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7E98A-BDC7-458A-A8DB-C7B61959C59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“You Choose a Name” &amp; then on the WordArt toolbar, click on Edit Text.  It could be Science Jeopardy or Social Studies Jeopardy…or whate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F1795-1410-45EA-9874-0F6E0DD6CF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revise this section.  Think about which rules you want to use before you play.  Revise the rules accordingly.  Don’t move past this screen until the team names &amp; buzzer sounds are decided.  Decide who keeps score &amp; who is the jud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81686-55C1-4F66-B6E0-0BBD4413EDD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game board.  Change each of the categories at the top of the five colum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2A341-F5DF-41DD-913B-872A6C87BBD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“Category 1” for the Category you’ve chosen on the previous slide.  Then Click &amp; Drag to select “Type your question(answer) here.” Type the new tex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5A2C4-41B6-4141-A404-12D237D64D9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out Category 1 for the category you’ve chosen.  Change out the Answer above with the correct answer.  Double-click on left to add clipart to your page.  Click on the U (action button) to take you back to the game board.  It’s important to click on this to take you back…otherwise you go to the next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1824-E24C-416C-A292-8F85FF3DA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1515-007D-495B-9CDA-200B3A033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08FC-DEBC-4B0E-8D45-C4AA91794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52A8-3741-41D1-A986-4BFC656EA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1B6D-0CC5-48D7-A833-7E8981E0B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4DA3-08FB-48C5-A361-1A5EB8368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BC2A-571E-4FF1-96EF-DD94C4E8D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B7CE-AE6B-4BBF-80F7-409537065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C17D-4B81-4BB9-8113-81AD794E4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A8F4-B513-45E0-A14B-B2C6AE7C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C578-D858-42CA-88E2-AC460C83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BD0D-B7DD-4A76-9B97-81C2E750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55244-D8FC-4A22-A9B6-F243F016E325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slide" Target="slide10.xml"/><Relationship Id="rId5" Type="http://schemas.openxmlformats.org/officeDocument/2006/relationships/slide" Target="slide12.xml"/><Relationship Id="rId6" Type="http://schemas.openxmlformats.org/officeDocument/2006/relationships/slide" Target="slide14.xml"/><Relationship Id="rId7" Type="http://schemas.openxmlformats.org/officeDocument/2006/relationships/slide" Target="slide16.xml"/><Relationship Id="rId8" Type="http://schemas.openxmlformats.org/officeDocument/2006/relationships/slide" Target="slide18.xml"/><Relationship Id="rId9" Type="http://schemas.openxmlformats.org/officeDocument/2006/relationships/slide" Target="slide20.xml"/><Relationship Id="rId10" Type="http://schemas.openxmlformats.org/officeDocument/2006/relationships/slide" Target="slide22.xml"/><Relationship Id="rId11" Type="http://schemas.openxmlformats.org/officeDocument/2006/relationships/slide" Target="slide24.xml"/><Relationship Id="rId12" Type="http://schemas.openxmlformats.org/officeDocument/2006/relationships/slide" Target="slide26.xml"/><Relationship Id="rId13" Type="http://schemas.openxmlformats.org/officeDocument/2006/relationships/slide" Target="slide28.xml"/><Relationship Id="rId14" Type="http://schemas.openxmlformats.org/officeDocument/2006/relationships/slide" Target="slide30.xml"/><Relationship Id="rId15" Type="http://schemas.openxmlformats.org/officeDocument/2006/relationships/slide" Target="slide32.xml"/><Relationship Id="rId16" Type="http://schemas.openxmlformats.org/officeDocument/2006/relationships/slide" Target="slide34.xml"/><Relationship Id="rId17" Type="http://schemas.openxmlformats.org/officeDocument/2006/relationships/slide" Target="slide36.xml"/><Relationship Id="rId18" Type="http://schemas.openxmlformats.org/officeDocument/2006/relationships/slide" Target="slide38.xml"/><Relationship Id="rId19" Type="http://schemas.openxmlformats.org/officeDocument/2006/relationships/slide" Target="slide40.xml"/><Relationship Id="rId20" Type="http://schemas.openxmlformats.org/officeDocument/2006/relationships/slide" Target="slide42.xml"/><Relationship Id="rId21" Type="http://schemas.openxmlformats.org/officeDocument/2006/relationships/slide" Target="slide44.xml"/><Relationship Id="rId22" Type="http://schemas.openxmlformats.org/officeDocument/2006/relationships/slide" Target="slide46.xml"/><Relationship Id="rId23" Type="http://schemas.openxmlformats.org/officeDocument/2006/relationships/slide" Target="slide48.xml"/><Relationship Id="rId24" Type="http://schemas.openxmlformats.org/officeDocument/2006/relationships/slide" Target="slide50.xml"/><Relationship Id="rId25" Type="http://schemas.openxmlformats.org/officeDocument/2006/relationships/slide" Target="slide52.xml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2590920" y="2743200"/>
            <a:ext cx="403848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1600200" y="533520"/>
            <a:ext cx="624852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Reading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WordArt 9"/>
          <p:cNvSpPr txBox="1"/>
          <p:nvPr/>
        </p:nvSpPr>
        <p:spPr>
          <a:xfrm>
            <a:off x="2286000" y="5791320"/>
            <a:ext cx="46483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kill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1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pe your question (answer) he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1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08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swer Her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Or…Question!)  :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1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pe your question (answer) he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1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15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swer Her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Or…Question!)  :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2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pe your question (answer) he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2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22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swer Her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Or…Question!)  :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2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pe your question (answer) he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2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swer Her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Or…Question!)  :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2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pe your question (answer) he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2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swer Her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Or…Question!)  :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Rules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lways answer in the form of a questi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eam names &amp; buzzer sounds read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oints to be taken away for wrong answers?  (Decide as a class…change this slide accordingly for future.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2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pe your question (answer) he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2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43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swer Her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Or…Question!)  :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2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pe your question (answer) he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2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50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swer Her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Or…Question!)  :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3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pe your question (answer) he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3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57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swer Her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Or…Question!)  :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3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pe your question (answer) he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3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64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swer Her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Or…Question!)  :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3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pe your question (answer) he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3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71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swer Her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Or…Question!)  :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609480" y="15238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" action="ppaction://hlinksldjump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609480" y="25909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2" action="ppaction://hlinksldjump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609480" y="365760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3" action="ppaction://hlinksldjump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609480" y="47242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4" action="ppaction://hlinksldjump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609480" y="57913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5" action="ppaction://hlinksldjump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Rectangle 28"/>
          <p:cNvSpPr/>
          <p:nvPr/>
        </p:nvSpPr>
        <p:spPr>
          <a:xfrm>
            <a:off x="609480" y="76320"/>
            <a:ext cx="1371600" cy="1295280"/>
          </a:xfrm>
          <a:prstGeom prst="rect">
            <a:avLst/>
          </a:prstGeom>
          <a:solidFill>
            <a:srgbClr val="468a4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tegory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Rectangle 29"/>
          <p:cNvSpPr/>
          <p:nvPr/>
        </p:nvSpPr>
        <p:spPr>
          <a:xfrm>
            <a:off x="2209680" y="76320"/>
            <a:ext cx="1371600" cy="1295280"/>
          </a:xfrm>
          <a:prstGeom prst="rect">
            <a:avLst/>
          </a:prstGeom>
          <a:solidFill>
            <a:srgbClr val="468a4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tegory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Rectangle 30"/>
          <p:cNvSpPr/>
          <p:nvPr/>
        </p:nvSpPr>
        <p:spPr>
          <a:xfrm>
            <a:off x="3809880" y="76320"/>
            <a:ext cx="1371600" cy="1295280"/>
          </a:xfrm>
          <a:prstGeom prst="rect">
            <a:avLst/>
          </a:prstGeom>
          <a:solidFill>
            <a:srgbClr val="468a4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tegory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Rectangle 31"/>
          <p:cNvSpPr/>
          <p:nvPr/>
        </p:nvSpPr>
        <p:spPr>
          <a:xfrm>
            <a:off x="5410080" y="76320"/>
            <a:ext cx="1371600" cy="1295280"/>
          </a:xfrm>
          <a:prstGeom prst="rect">
            <a:avLst/>
          </a:prstGeom>
          <a:solidFill>
            <a:srgbClr val="468a4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tegory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Rectangle 32"/>
          <p:cNvSpPr/>
          <p:nvPr/>
        </p:nvSpPr>
        <p:spPr>
          <a:xfrm>
            <a:off x="7010280" y="76320"/>
            <a:ext cx="1371600" cy="1295280"/>
          </a:xfrm>
          <a:prstGeom prst="rect">
            <a:avLst/>
          </a:prstGeom>
          <a:solidFill>
            <a:srgbClr val="468a4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tegory 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Rectangle 33"/>
          <p:cNvSpPr/>
          <p:nvPr/>
        </p:nvSpPr>
        <p:spPr>
          <a:xfrm>
            <a:off x="2209680" y="15238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6" action="ppaction://hlinksldjump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Rectangle 34"/>
          <p:cNvSpPr/>
          <p:nvPr/>
        </p:nvSpPr>
        <p:spPr>
          <a:xfrm>
            <a:off x="2209680" y="25909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7" action="ppaction://hlinksldjump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Rectangle 35"/>
          <p:cNvSpPr/>
          <p:nvPr/>
        </p:nvSpPr>
        <p:spPr>
          <a:xfrm>
            <a:off x="2209680" y="365760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8" action="ppaction://hlinksldjump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Rectangle 36"/>
          <p:cNvSpPr/>
          <p:nvPr/>
        </p:nvSpPr>
        <p:spPr>
          <a:xfrm>
            <a:off x="2209680" y="47242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9" action="ppaction://hlinksldjump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Rectangle 37"/>
          <p:cNvSpPr/>
          <p:nvPr/>
        </p:nvSpPr>
        <p:spPr>
          <a:xfrm>
            <a:off x="2209680" y="57913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0" action="ppaction://hlinksldjump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Rectangle 38"/>
          <p:cNvSpPr/>
          <p:nvPr/>
        </p:nvSpPr>
        <p:spPr>
          <a:xfrm>
            <a:off x="3809880" y="15238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1" action="ppaction://hlinksldjump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Rectangle 39"/>
          <p:cNvSpPr/>
          <p:nvPr/>
        </p:nvSpPr>
        <p:spPr>
          <a:xfrm>
            <a:off x="3809880" y="25909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2" action="ppaction://hlinksldjump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Rectangle 40"/>
          <p:cNvSpPr/>
          <p:nvPr/>
        </p:nvSpPr>
        <p:spPr>
          <a:xfrm>
            <a:off x="3809880" y="365760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3" action="ppaction://hlinksldjump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Rectangle 41"/>
          <p:cNvSpPr/>
          <p:nvPr/>
        </p:nvSpPr>
        <p:spPr>
          <a:xfrm>
            <a:off x="3809880" y="47242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4" action="ppaction://hlinksldjump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Rectangle 42"/>
          <p:cNvSpPr/>
          <p:nvPr/>
        </p:nvSpPr>
        <p:spPr>
          <a:xfrm>
            <a:off x="3809880" y="57913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5" action="ppaction://hlinksldjump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Rectangle 43"/>
          <p:cNvSpPr/>
          <p:nvPr/>
        </p:nvSpPr>
        <p:spPr>
          <a:xfrm>
            <a:off x="5410080" y="15238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6" action="ppaction://hlinksldjump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Rectangle 44"/>
          <p:cNvSpPr/>
          <p:nvPr/>
        </p:nvSpPr>
        <p:spPr>
          <a:xfrm>
            <a:off x="5410080" y="25909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7" action="ppaction://hlinksldjump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Rectangle 45"/>
          <p:cNvSpPr/>
          <p:nvPr/>
        </p:nvSpPr>
        <p:spPr>
          <a:xfrm>
            <a:off x="5410080" y="365760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8" action="ppaction://hlinksldjump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Rectangle 46"/>
          <p:cNvSpPr/>
          <p:nvPr/>
        </p:nvSpPr>
        <p:spPr>
          <a:xfrm>
            <a:off x="5410080" y="47242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19" action="ppaction://hlinksldjump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Rectangle 47"/>
          <p:cNvSpPr/>
          <p:nvPr/>
        </p:nvSpPr>
        <p:spPr>
          <a:xfrm>
            <a:off x="5410080" y="57913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20" action="ppaction://hlinksldjump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48"/>
          <p:cNvSpPr/>
          <p:nvPr/>
        </p:nvSpPr>
        <p:spPr>
          <a:xfrm>
            <a:off x="7010280" y="15238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21" action="ppaction://hlinksldjump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Rectangle 49"/>
          <p:cNvSpPr/>
          <p:nvPr/>
        </p:nvSpPr>
        <p:spPr>
          <a:xfrm>
            <a:off x="7010280" y="25909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22" action="ppaction://hlinksldjump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50"/>
          <p:cNvSpPr/>
          <p:nvPr/>
        </p:nvSpPr>
        <p:spPr>
          <a:xfrm>
            <a:off x="7010280" y="365760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23" action="ppaction://hlinksldjump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Rectangle 51"/>
          <p:cNvSpPr/>
          <p:nvPr/>
        </p:nvSpPr>
        <p:spPr>
          <a:xfrm>
            <a:off x="7010280" y="4724280"/>
            <a:ext cx="137160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24" action="ppaction://hlinksldjump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Rectangle 52"/>
          <p:cNvSpPr/>
          <p:nvPr/>
        </p:nvSpPr>
        <p:spPr>
          <a:xfrm>
            <a:off x="7010280" y="5791320"/>
            <a:ext cx="1371600" cy="838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6ccff"/>
                </a:solidFill>
                <a:uFillTx/>
                <a:latin typeface="Comic Sans MS"/>
                <a:hlinkClick r:id="rId25" action="ppaction://hlinksldjump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3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pe your question (answer) he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3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78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swer Her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Or…Question!)  :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3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pe your question (answer) he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3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85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swer Her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Or…Question!)  :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4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pe your question (answer) he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4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92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swer Her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Or…Question!)  :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4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pe your question (answer) he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4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99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swer Her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Or…Question!)  :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4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pe your question (answer) he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4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06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swer Her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Or…Question!)  :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1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pe your question (answer) he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4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pe your question (answer) he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4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13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swer Her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Or…Question!)  :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4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pe your question (answer) he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4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20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swer Her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Or…Question!)  :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5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pe your question (answer) he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5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27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swer Her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Or…Question!)  :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5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pe your question (answer) he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5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34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swer Her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Or…Question!)  :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5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pe your question (answer) he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5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41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swer Her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Or…Question!)  :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1 - for 1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87" name="AutoShape 4">
            <a:hlinkClick r:id="rId1" action="ppaction://hlinksldjump"/>
          </p:cNvPr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swer Her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Or…Question!)  :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5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pe your question (answer) he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5 - for 4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48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swer Her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Or…Question!)  :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5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pe your question (answer) he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5 - for 5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55" name="AutoShape 3"/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swer Her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Or…Question!)  :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1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pe your question (answer) he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1 - for 2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94" name="AutoShape 3">
            <a:hlinkClick r:id="rId1" action="ppaction://hlinksldjump"/>
          </p:cNvPr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swer Her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Or…Question!)  :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1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ype your question (answer) her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685800" y="6248520"/>
            <a:ext cx="754380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member to phrase your answer in the form of a questi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Comic Sans MS"/>
              </a:rPr>
              <a:t>Category 1 - for 300</a:t>
            </a:r>
            <a:endParaRPr b="0" lang="en-US" sz="44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01" name="AutoShape 3">
            <a:hlinkClick r:id="rId1" action="ppaction://hlinksldjump"/>
          </p:cNvPr>
          <p:cNvSpPr/>
          <p:nvPr/>
        </p:nvSpPr>
        <p:spPr>
          <a:xfrm>
            <a:off x="6019920" y="54864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5232" y="7493"/>
                </a:moveTo>
                <a:lnTo>
                  <a:pt x="8740" y="7493"/>
                </a:lnTo>
                <a:lnTo>
                  <a:pt x="8740" y="12828"/>
                </a:lnTo>
                <a:cubicBezTo>
                  <a:pt x="8740" y="13751"/>
                  <a:pt x="9540" y="14482"/>
                  <a:pt x="10576" y="14482"/>
                </a:cubicBezTo>
                <a:lnTo>
                  <a:pt x="12238" y="14482"/>
                </a:lnTo>
                <a:cubicBezTo>
                  <a:pt x="13274" y="14482"/>
                  <a:pt x="14075" y="13751"/>
                  <a:pt x="14075" y="12828"/>
                </a:cubicBezTo>
                <a:lnTo>
                  <a:pt x="14075" y="7493"/>
                </a:lnTo>
                <a:lnTo>
                  <a:pt x="12238" y="7493"/>
                </a:lnTo>
                <a:lnTo>
                  <a:pt x="15746" y="3985"/>
                </a:lnTo>
                <a:lnTo>
                  <a:pt x="19419" y="7493"/>
                </a:lnTo>
                <a:lnTo>
                  <a:pt x="17582" y="7493"/>
                </a:lnTo>
                <a:lnTo>
                  <a:pt x="17582" y="12828"/>
                </a:lnTo>
                <a:cubicBezTo>
                  <a:pt x="17582" y="15596"/>
                  <a:pt x="15006" y="18155"/>
                  <a:pt x="12238" y="18155"/>
                </a:cubicBezTo>
                <a:lnTo>
                  <a:pt x="10576" y="18155"/>
                </a:lnTo>
                <a:cubicBezTo>
                  <a:pt x="7808" y="18155"/>
                  <a:pt x="5232" y="15596"/>
                  <a:pt x="5232" y="12828"/>
                </a:cubicBez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swer Her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Or…Question!)  :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1T15:45:55Z</dcterms:created>
  <dc:creator/>
  <dc:description/>
  <dc:language>en-US</dc:language>
  <cp:lastModifiedBy>rparmigiani</cp:lastModifiedBy>
  <dcterms:modified xsi:type="dcterms:W3CDTF">2011-07-26T14:51:55Z</dcterms:modified>
  <cp:revision>20</cp:revision>
  <dc:subject/>
  <dc:title>PowerPoint Presentation</dc:title>
</cp:coreProperties>
</file>